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89AEF7-6FA7-4321-851D-0471D19E5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E6BE73A-C33A-40FF-8D2F-2FF56E4A32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8D5F5F-F67E-441E-8033-EBE60A26F9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2E0ED4-0628-4A46-8EE0-A858D2B4C5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6DD29A-74ED-49DC-A484-E75446ADCB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61C84B-89EE-41A0-8DF4-4BEB503C07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50CAAA1-AEBB-4879-BFDA-AEC8AF3C2A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E4F62B-FED5-42A7-A38B-CB0E439859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76D772-F1EF-468E-8ABF-5F70111A47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424711-E171-4D3A-B746-268CD965BC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8A1011-1646-475E-B283-CF70B79D00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34DFC16-E7F5-463C-B65F-3DCC2D4C6F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A4A851-9854-4EAB-8015-3E065335C8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DB192D-E05E-49B0-BB11-7B8A1698F1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9A2-203A-4D41-B590-270B531A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177-825E-4A64-AFE9-B74D61C4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A70-E357-4169-A3C7-D18A2772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E9F-7076-4BE3-A596-8B9F6D7B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FE58-19DB-432F-BADD-0123437A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BCCB-A501-401F-9A46-66E41310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DAA2-071F-4273-A6FD-240A6907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1BAE-6EA0-40D9-8B5C-0F9424E4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C6B5-6A8B-460E-BB5F-857F0F8B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8364-0311-449A-8C83-DD12A108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2A16-C0D5-4AED-950D-DD70C7FE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F39E-7ED8-48B0-8249-57365E02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2EA4-C18B-40FB-A13E-AB424462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F1CF-B67A-4962-B58D-B9728434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C0FF-BB1D-4074-90C9-06F1DB6E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7E5C-BC1B-4380-AB0A-BC610666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A7C4-19C3-423D-8E76-74858EB4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219-DB59-4BED-B592-1893CCC6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2E9-19C4-453B-86F4-50930181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B91-BB92-4E49-BB4D-F8186DE1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8B2-82C6-4FA6-8A07-9B143A92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9DA-6002-40F3-BB30-24F57541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F3B-EDB1-440E-95DB-B883D0D9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09D-3D76-4CC1-9315-D55E2620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9DB8-682B-43A7-A373-50DC221FBC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7AED-9CB9-42EE-8CC2-3E60E87FE4E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ewmorepics.myspace.com/index.cfm?fuseaction=viewImage&amp;friendID=5488415&amp;albumID=252611&amp;imageID=453032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295280" y="2057400"/>
            <a:ext cx="6400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ho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133720" y="2514600"/>
            <a:ext cx="4952880" cy="27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g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w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is on ground or low…and looking u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powerful or sup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m_13ff5a6cc3c8f15d93893596f2114cd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886200"/>
            <a:ext cx="266688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0" y="45684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gh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63536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looks down on the su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weak or inf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614600" y="1096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l_9d4bd62a10d17a8af91e60a4ef5ee1fd"/>
          <p:cNvPicPr/>
          <p:nvPr/>
        </p:nvPicPr>
        <p:blipFill>
          <a:blip r:embed="rId1"/>
          <a:stretch/>
        </p:blipFill>
        <p:spPr>
          <a:xfrm>
            <a:off x="1143000" y="1905120"/>
            <a:ext cx="3200400" cy="238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t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43400" y="2057400"/>
            <a:ext cx="436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ngle is diagonal, crook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ggests action or excit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thing abnormal is going 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l_27c0f56de526d76fab1e0c3201e21d06"/>
          <p:cNvPicPr/>
          <p:nvPr/>
        </p:nvPicPr>
        <p:blipFill>
          <a:blip r:embed="rId1"/>
          <a:stretch/>
        </p:blipFill>
        <p:spPr>
          <a:xfrm>
            <a:off x="380880" y="20574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95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a pers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people from hea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to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ll body sho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1451912704_l"/>
          <p:cNvPicPr/>
          <p:nvPr/>
        </p:nvPicPr>
        <p:blipFill>
          <a:blip r:embed="rId1"/>
          <a:stretch/>
        </p:blipFill>
        <p:spPr>
          <a:xfrm>
            <a:off x="5562720" y="1905120"/>
            <a:ext cx="28224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dium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the person from about the waist to the hea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1381080703_l"/>
          <p:cNvPicPr/>
          <p:nvPr/>
        </p:nvPicPr>
        <p:blipFill>
          <a:blip r:embed="rId1"/>
          <a:stretch/>
        </p:blipFill>
        <p:spPr>
          <a:xfrm>
            <a:off x="342900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5520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ose-u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eatures a person’s head and should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are close to the 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le to more clearly recognize facial express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l_b338cceeabaf40d97b4e20e4042afe26"/>
          <p:cNvPicPr/>
          <p:nvPr/>
        </p:nvPicPr>
        <p:blipFill>
          <a:blip r:embed="rId1"/>
          <a:stretch/>
        </p:blipFill>
        <p:spPr>
          <a:xfrm>
            <a:off x="4724280" y="3581280"/>
            <a:ext cx="3429000" cy="23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reme Close-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osest we can get to a person or o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ye, mouth, watch, doorknob, et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C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1168813263_l"/>
          <p:cNvPicPr/>
          <p:nvPr/>
        </p:nvPicPr>
        <p:blipFill>
          <a:blip r:embed="rId1"/>
          <a:stretch/>
        </p:blipFill>
        <p:spPr>
          <a:xfrm>
            <a:off x="5943600" y="380988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a_4eff2cf6aeee56857c9ab5710b0c874c"/>
          <p:cNvPicPr/>
          <p:nvPr/>
        </p:nvPicPr>
        <p:blipFill>
          <a:blip r:embed="rId2"/>
          <a:stretch/>
        </p:blipFill>
        <p:spPr>
          <a:xfrm>
            <a:off x="990720" y="4419720"/>
            <a:ext cx="1904760" cy="142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doorknob_closeup-750x600"/>
          <p:cNvPicPr/>
          <p:nvPr/>
        </p:nvPicPr>
        <p:blipFill>
          <a:blip r:embed="rId3"/>
          <a:stretch/>
        </p:blipFill>
        <p:spPr>
          <a:xfrm>
            <a:off x="3276720" y="4343400"/>
            <a:ext cx="236196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eye%2520close%2520up"/>
          <p:cNvPicPr/>
          <p:nvPr/>
        </p:nvPicPr>
        <p:blipFill>
          <a:blip r:embed="rId4"/>
          <a:stretch/>
        </p:blipFill>
        <p:spPr>
          <a:xfrm>
            <a:off x="3886200" y="3048120"/>
            <a:ext cx="182880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ablishi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shot of a sce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lls where the action will be taking pl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be a build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ig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a tit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146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you can click the picture to move forward. until you get to the end."/>
          <p:cNvPicPr/>
          <p:nvPr/>
        </p:nvPicPr>
        <p:blipFill>
          <a:blip r:embed="rId1"/>
          <a:stretch/>
        </p:blipFill>
        <p:spPr>
          <a:xfrm>
            <a:off x="5181480" y="1828800"/>
            <a:ext cx="24386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6"/>
          <p:cNvGrpSpPr/>
          <p:nvPr/>
        </p:nvGrpSpPr>
        <p:grpSpPr>
          <a:xfrm>
            <a:off x="1714680" y="1285920"/>
            <a:ext cx="5143320" cy="360"/>
            <a:chOff x="1714680" y="1285920"/>
            <a:chExt cx="5143320" cy="360"/>
          </a:xfrm>
        </p:grpSpPr>
        <p:sp>
          <p:nvSpPr>
            <p:cNvPr id="120" name="Rectangle 7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Rectangle 10"/>
          <p:cNvSpPr/>
          <p:nvPr/>
        </p:nvSpPr>
        <p:spPr>
          <a:xfrm>
            <a:off x="5562720" y="4114800"/>
            <a:ext cx="1904760" cy="1828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ncipal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Before"/>
          <p:cNvPicPr/>
          <p:nvPr/>
        </p:nvPicPr>
        <p:blipFill>
          <a:blip r:embed="rId2"/>
          <a:stretch/>
        </p:blipFill>
        <p:spPr>
          <a:xfrm>
            <a:off x="609480" y="3733920"/>
            <a:ext cx="3200400" cy="214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the shoulder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220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ck of person’s head=foregrou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n character’s head=background, but it is in foc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 know the character is talking to some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46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OTS"/>
          <p:cNvPicPr/>
          <p:nvPr/>
        </p:nvPicPr>
        <p:blipFill>
          <a:blip r:embed="rId1"/>
          <a:stretch/>
        </p:blipFill>
        <p:spPr>
          <a:xfrm>
            <a:off x="4038480" y="2438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hot with 2 people in 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l_59d29de8971e6a11bd99086a4c3993e4"/>
          <p:cNvPicPr/>
          <p:nvPr/>
        </p:nvPicPr>
        <p:blipFill>
          <a:blip r:embed="rId1"/>
          <a:stretch/>
        </p:blipFill>
        <p:spPr>
          <a:xfrm>
            <a:off x="2438280" y="2743200"/>
            <a:ext cx="4419720" cy="33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4:49:30Z</dcterms:created>
  <dc:creator>Administrator</dc:creator>
  <dc:description/>
  <dc:language>en-US</dc:language>
  <cp:lastModifiedBy>Ferris, Erin</cp:lastModifiedBy>
  <dcterms:modified xsi:type="dcterms:W3CDTF">2014-05-19T12:35:45Z</dcterms:modified>
  <cp:revision>16</cp:revision>
  <dc:subject/>
  <dc:title>Slide 1</dc:title>
</cp:coreProperties>
</file>